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51DB-1F2B-4727-900B-D2039090C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B99-EA8F-4438-85A3-CA265503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0F8-EFD7-4A38-A8D2-6EF3135C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A6A-A7DB-44DD-97BF-C0AD3F35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B4C-5AD4-4BAA-8410-6C4EBF36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61CF-6BB5-45B5-AB7F-617E2BD7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3B67-C1E2-4C12-A9A4-AB8A8767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F80A-CBBC-4933-BA2D-7B252217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E28F-46BB-4628-9782-032E781A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8686-6E04-4587-B4ED-DD633235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689D-D2F6-40FF-BF8C-598D910F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AFC7-D8F0-466B-B9E0-4290771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328-EED5-40B0-8E40-3F15F86B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1D10-2DA1-46B2-AE53-4B6CEBB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C8E5-7CE1-46B1-90FF-5D6DCC0A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4BA4-8530-4DB0-B45D-A3CB8973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8DDA-4590-4446-A24A-2C4F9DF4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072B-12ED-4C09-B498-168C5311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B7F-D6D2-4FEC-9BA2-A9919D5E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8CA-F109-4E53-8D12-7BD97557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20C-45D7-40D8-B24B-9360B83F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EF3-A957-4074-8D22-B9EFFAFF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4FE-E8D5-40D1-B514-10AC733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021-58DA-4638-A60B-5CF8A24B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4550-49B7-4D1D-8FF2-2B8BA3F8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C7E7-1F41-49E2-9BF8-EE106C243D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0865-E95D-44AA-B20A-0FB1C6DD94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erseveran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The Little Engine That Coul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Complete 2 handout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Tenacious Quotes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My personal patience rating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rseveranc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orking hard and not giving up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11" descr="j0292020"/>
          <p:cNvPicPr/>
          <p:nvPr/>
        </p:nvPicPr>
        <p:blipFill>
          <a:blip r:embed="rId1"/>
          <a:stretch/>
        </p:blipFill>
        <p:spPr>
          <a:xfrm>
            <a:off x="3770280" y="35812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enacity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lding together and sticking to something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5" descr="j0285410"/>
          <p:cNvPicPr/>
          <p:nvPr/>
        </p:nvPicPr>
        <p:blipFill>
          <a:blip r:embed="rId1"/>
          <a:stretch/>
        </p:blipFill>
        <p:spPr>
          <a:xfrm>
            <a:off x="4343400" y="3276720"/>
            <a:ext cx="28195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he Crow and the Pitche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LEGION</cp:lastModifiedBy>
  <dcterms:modified xsi:type="dcterms:W3CDTF">2015-09-11T10:54:09Z</dcterms:modified>
  <cp:revision>13</cp:revision>
  <dc:subject/>
  <dc:title>Character Education Perseverance</dc:title>
</cp:coreProperties>
</file>